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7C77-8013-4498-A3EA-DB6446273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04C6-6425-4CD1-8511-F2F748DF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3B18-69F1-456A-AC32-66BA2439A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AEEA-FD84-4128-9ACB-300554AA1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A8E4-179E-43AA-B9D1-592957DF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E996-55BF-43FD-93BD-6C022E5C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D56F-8436-4677-8B98-B1E8351B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EE29-3235-4737-A3EE-25C2BDE8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E131-9AB4-4E27-A784-E92A6B6F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9B0D-02F7-47CD-AE4A-DF7B5C3C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3248-145D-48C2-996E-3C661DF8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DF37-20FB-4459-A225-5E91EA20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9A3F-132B-4BA2-9CC3-17E3C2366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310 Vzácny priateľ je Pán Ježiš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Vzácny priateľ je Pán Ježiš,</a:t>
            </a:r>
            <a:br>
              <a:rPr sz="4800"/>
            </a:br>
            <a:r>
              <a:rPr b="1" lang="cs-CZ" sz="4700" spc="-1" strike="noStrike">
                <a:solidFill>
                  <a:srgbClr val="66ff33"/>
                </a:solidFill>
                <a:latin typeface="Arial"/>
              </a:rPr>
              <a:t>s láskou vždy sa skláňa k nám,</a:t>
            </a:r>
            <a:br>
              <a:rPr sz="4800"/>
            </a:b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jeho Slova pokrm svieži</a:t>
            </a:r>
            <a:br>
              <a:rPr sz="4800"/>
            </a:b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dáva silu k víťazstv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700" spc="-1" strike="noStrike">
                <a:solidFill>
                  <a:srgbClr val="66ff33"/>
                </a:solidFill>
                <a:latin typeface="Arial"/>
              </a:rPr>
              <a:t>Keď sa strachom srdce chveje,</a:t>
            </a:r>
            <a:br>
              <a:rPr sz="4700"/>
            </a:b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v hmlách sa stráca cesty cieľ,</a:t>
            </a:r>
            <a:br>
              <a:rPr sz="4800"/>
            </a:b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modlitba zas nádej vleje,</a:t>
            </a:r>
            <a:br>
              <a:rPr sz="4800"/>
            </a:b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pomoc pošle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Keď ťa žiaľ či starosť tlačí,</a:t>
            </a:r>
            <a:br>
              <a:rPr sz="4800"/>
            </a:b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svoj či cudzí nesieš kríž,</a:t>
            </a:r>
            <a:br>
              <a:rPr sz="4800"/>
            </a:b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v námahe či bôľnom plači</a:t>
            </a:r>
            <a:br>
              <a:rPr sz="4800"/>
            </a:b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s modlitbou sa k Bohu blí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Nenájde sa v svete šírom</a:t>
            </a:r>
            <a:br>
              <a:rPr sz="4800"/>
            </a:b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priateľ rovný Pánovi,</a:t>
            </a:r>
            <a:br>
              <a:rPr sz="4800"/>
            </a:b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vie vždy pomôcť,</a:t>
            </a:r>
            <a:br>
              <a:rPr sz="4800"/>
            </a:b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svojím Slovom</a:t>
            </a:r>
            <a:br>
              <a:rPr sz="4800"/>
            </a:b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radosť v srdci obnoví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Všetci hriechom obťažení,</a:t>
            </a:r>
            <a:br>
              <a:rPr sz="4800"/>
            </a:b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poďte ku mne, volá Pán,</a:t>
            </a:r>
            <a:br>
              <a:rPr sz="4800"/>
            </a:b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nádej dáva v každej tiesni</a:t>
            </a:r>
            <a:br>
              <a:rPr sz="4800"/>
            </a:b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lásky Božej spásny pl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S dôverou vždy, v každom žiali</a:t>
            </a:r>
            <a:br>
              <a:rPr sz="4800"/>
            </a:b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stíš sa k prosbe pokornej,</a:t>
            </a:r>
            <a:br>
              <a:rPr sz="4800"/>
            </a:b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spievať budeš pieseň chvály</a:t>
            </a:r>
            <a:br>
              <a:rPr sz="4800"/>
            </a:b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v cieli cesty víťaznej.</a:t>
            </a:r>
            <a:br>
              <a:rPr sz="4800"/>
            </a:b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uzivatel</cp:lastModifiedBy>
  <dcterms:modified xsi:type="dcterms:W3CDTF">2010-10-30T08:52:33Z</dcterms:modified>
  <cp:revision>24</cp:revision>
  <dc:subject/>
  <dc:title>Je veľký náš Pán, on slávy je Kráľ Nech do všetkých strán  spev vrúcnych znie chvál.</dc:title>
</cp:coreProperties>
</file>